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FAF4-31F5-4AF5-A730-797D4DCE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6467-0AFD-4C5F-A32C-9474F8E8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D0C1-707D-4E7F-9DB0-DBA02ADF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4928-AA4E-405F-914B-EB1113B0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14A-6E6F-46B5-A9AE-7434EBA8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84FA-DB5D-461E-AEB6-C7A5FCDE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04C5-C1F7-42E3-A269-E7EF203E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5F28-3EA7-4F34-8325-5899D186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A870-C9B0-42FD-B2F2-ADED7C2A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04FA-3912-4B77-A371-86C9B0F9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0BDA-3202-4E92-AC39-5A613A1B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CFD5-CFD7-43C9-9671-A7E8B0BA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23AD-9C52-4230-8EE2-0579EE1D9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http://upload.wikimedia.org/wikipedia/commons/c/c3/37_Lyndon_Johnson_3x4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imdb.com/rg/mediaindex/thumbnail/media/rm1416206336/nm0000069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imdb.com/rg/mediaindex/thumbnail/media/rm1503631360/nm0000054" TargetMode="External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hyperlink" Target="http://z.about.com/d/womenshistory/1/0/z/I/jackie_kennedy.jpg" TargetMode="External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1.jpeg"/><Relationship Id="rId14" Type="http://schemas.openxmlformats.org/officeDocument/2006/relationships/image" Target="../media/image5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hyperlink" Target="http://www.time.com/time/2003/jfk/photoessay/5.html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www.time.com/time/2003/jfk/photoessay/2.html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time.com/time/2003/jfk/photoessay/5.html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time.com/time/2003/jfk/photoessay/2.html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hyperlink" Target="http://www.time.com/time/2003/jfk/photoessay/3.html" TargetMode="External"/><Relationship Id="rId9" Type="http://schemas.openxmlformats.org/officeDocument/2006/relationships/image" Target="../media/image10.jpeg"/><Relationship Id="rId10" Type="http://schemas.openxmlformats.org/officeDocument/2006/relationships/hyperlink" Target="http://www.time.com/time/2003/jfk/photoessay/6.html" TargetMode="External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3520" cy="1828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President Kennedy, head and shoulders portrait photograph, looking up. Photograph distributed by the White House. "/>
          <p:cNvPicPr/>
          <p:nvPr/>
        </p:nvPicPr>
        <p:blipFill>
          <a:blip r:embed="rId2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File:37 Lyndon Johnson 3x4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280" y="58672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B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Frank Sinatra, portrait for Kings Go Forth, 1958.&#10;Vintage silver gelatin, 7x13.5, signed. $900&#10;Â© 1978 Bill Avery&#10;MPTV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480" y="5334120"/>
            <a:ext cx="532080" cy="530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c. 1953&#10;Photo by Frank Powoln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ily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Robert F. Kennedy - Photo"/>
          <p:cNvPicPr/>
          <p:nvPr/>
        </p:nvPicPr>
        <p:blipFill>
          <a:blip r:embed="rId9"/>
          <a:stretch/>
        </p:blipFill>
        <p:spPr>
          <a:xfrm>
            <a:off x="152280" y="6095880"/>
            <a:ext cx="393840" cy="536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b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A picture of First Lady Jacqueline Kennedy, wife of President John F. Kennedy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ck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7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Robert Frost"/>
          <p:cNvPicPr/>
          <p:nvPr/>
        </p:nvPicPr>
        <p:blipFill>
          <a:blip r:embed="rId12"/>
          <a:stretch/>
        </p:blipFill>
        <p:spPr>
          <a:xfrm>
            <a:off x="1219320" y="6095880"/>
            <a:ext cx="420480" cy="549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by Kennedy to 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ave you finalized your plans for the Texas trip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President Kennedy, head and shoulders portrait photograph, looking up. Photograph distributed by the White House. "/>
          <p:cNvPicPr/>
          <p:nvPr/>
        </p:nvPicPr>
        <p:blipFill>
          <a:blip r:embed="rId13"/>
          <a:stretch/>
        </p:blipFill>
        <p:spPr>
          <a:xfrm>
            <a:off x="2133720" y="3809880"/>
            <a:ext cx="417240" cy="533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Robert F. Kennedy - Photo"/>
          <p:cNvPicPr/>
          <p:nvPr/>
        </p:nvPicPr>
        <p:blipFill>
          <a:blip r:embed="rId14"/>
          <a:stretch/>
        </p:blipFill>
        <p:spPr>
          <a:xfrm>
            <a:off x="2133720" y="3124080"/>
            <a:ext cx="393480" cy="536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can’t believe I had to actually send the National Guard to Alabama just so some kids could go to colleg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President Kennedy, head and shoulders portrait photograph, looking up. Photograph distributed by the White House. "/>
          <p:cNvPicPr/>
          <p:nvPr/>
        </p:nvPicPr>
        <p:blipFill>
          <a:blip r:embed="rId15"/>
          <a:stretch/>
        </p:blipFill>
        <p:spPr>
          <a:xfrm>
            <a:off x="2133720" y="44956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so glad we avoided war with the Russians!  That Crisis in Cuba had my blood boiling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28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President Kennedy, head and shoulders portrait photograph, looking up. Photograph distributed by the White House. "/>
          <p:cNvPicPr/>
          <p:nvPr/>
        </p:nvPicPr>
        <p:blipFill>
          <a:blip r:embed="rId16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opes everyone realizes how serious I am about putting a man on the moon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9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President Kennedy, head and shoulders portrait photograph, looking up. Photograph distributed by the White House. "/>
          <p:cNvPicPr/>
          <p:nvPr/>
        </p:nvPicPr>
        <p:blipFill>
          <a:blip r:embed="rId17"/>
          <a:stretch/>
        </p:blipFill>
        <p:spPr>
          <a:xfrm>
            <a:off x="2133720" y="5791320"/>
            <a:ext cx="417240" cy="533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ishes the Bay of Pigs invasion had gone better!  I think Castro is going to be a major thorn in the side of the U.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7, 19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2080" cy="1828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rookline, Massachuset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Jacqueline Kenne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3200400"/>
            <a:ext cx="449568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mmanding the Army, making peace with the Soviet Union,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promoting civil right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Sailing, Football, Summers in Hyannis, Space Expl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Frank Sinatra, Dean Martin, Sammy Davis, J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Some Like it Hot, Gentleman Prefer Blondes, Ocean’s Eleven, Guys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nd Do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d Sullivan Show, The Frank Sinatra Show, To Tell the T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he Road Not Taken, From Russia With Love, Marlborough, Declin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and Fall of the Roman Emp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0 Pennsylvania Avenue NW, Washington, DC 205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202) 456-11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JF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FK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5105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3718080" y="5105520"/>
            <a:ext cx="895320" cy="1143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President Kennedy, head and shoulders portrait photograph, looking up. Photograph distributed by the White House. "/>
          <p:cNvPicPr/>
          <p:nvPr/>
        </p:nvPicPr>
        <p:blipFill>
          <a:blip r:embed="rId7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8380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2096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2"/>
          <a:stretch/>
        </p:blipFill>
        <p:spPr>
          <a:xfrm>
            <a:off x="3505320" y="19051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3"/>
          <a:stretch/>
        </p:blipFill>
        <p:spPr>
          <a:xfrm>
            <a:off x="5029200" y="1905120"/>
            <a:ext cx="1523880" cy="1137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4"/>
          <a:stretch/>
        </p:blipFill>
        <p:spPr>
          <a:xfrm>
            <a:off x="838080" y="32004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5"/>
          <a:stretch/>
        </p:blipFill>
        <p:spPr>
          <a:xfrm>
            <a:off x="2133720" y="3197160"/>
            <a:ext cx="1295280" cy="1255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6"/>
          <a:stretch/>
        </p:blipFill>
        <p:spPr>
          <a:xfrm>
            <a:off x="3581280" y="3200400"/>
            <a:ext cx="12067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752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her Te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2590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the Missionaries of Charity in Calcutta, India, 19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79 – won Nobel peace Pr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0 – Awarded Bharat Ratna in In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28 – Joined the Sisters of Loreto as a missio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52 – Opened the Kalighat Home for the Dy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55 – Opened the Nirmala Shishu Bivhan for orphans and homeless child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2 – Negotiated a  cease-fire between Israeli and Palestine armies to rescue 37 children from a devastated hosp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1 – Opened Missionaries for Charity Brothers in Alba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3 – Suffered heart attack while visiting Pope John Paul II in R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Frisco ISD</cp:lastModifiedBy>
  <dcterms:modified xsi:type="dcterms:W3CDTF">2010-01-21T21:59:46Z</dcterms:modified>
  <cp:revision>16</cp:revision>
  <dc:subject/>
  <dc:title>Profile</dc:title>
</cp:coreProperties>
</file>